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648-1FE7-4485-BE53-01291F036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2AAF-00A3-4286-9A51-0B7E30D6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602C-C184-4D1D-9A75-54F3BE8A2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DB1F-44ED-4D63-8A58-C930C8E91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68A-1353-40B8-9E51-436BC4028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DF7C-44CF-491D-8864-F7750974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DF1-A860-4190-9EA0-57FC87AB2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8E01-9451-4605-A673-27FA1D91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2468-7262-4CF7-8E79-6B2B8915B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7F59-D8F2-432A-815D-BC1C31B3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8111-EA01-4C0D-BD45-98A8299B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171B-A1A7-4E31-87B6-26BBBFC8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21935-18BB-4F5A-9216-D6F57A92D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image" Target="../media/image5.jpeg"/><Relationship Id="rId7" Type="http://schemas.openxmlformats.org/officeDocument/2006/relationships/slide" Target="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029200" y="152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25588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781520" y="1009800"/>
            <a:ext cx="413388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ark E. Dam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/>
          <p:cNvSpPr/>
          <p:nvPr/>
        </p:nvSpPr>
        <p:spPr>
          <a:xfrm>
            <a:off x="4648320" y="6477120"/>
            <a:ext cx="441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©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2001 - All Rights Reserv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62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7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770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7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7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52480" y="142884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7360" y="6338880"/>
            <a:ext cx="16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52280" y="76320"/>
            <a:ext cx="1523880" cy="5181120"/>
            <a:chOff x="152280" y="76320"/>
            <a:chExt cx="1523880" cy="5181120"/>
          </a:xfrm>
        </p:grpSpPr>
        <p:sp>
          <p:nvSpPr>
            <p:cNvPr id="52" name=""/>
            <p:cNvSpPr/>
            <p:nvPr/>
          </p:nvSpPr>
          <p:spPr>
            <a:xfrm>
              <a:off x="152280" y="440712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52280" y="378828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,5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52280" y="31694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52280" y="25509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19321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280" y="131364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5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2280" y="695160"/>
              <a:ext cx="1523880" cy="85032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0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280" y="76320"/>
              <a:ext cx="1523880" cy="85068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50000">
                  <a:srgbClr val="ffffff"/>
                </a:gs>
                <a:gs pos="100000">
                  <a:srgbClr val="0099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$125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315200" y="1219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AM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4" action="ppaction://hlinksldjump"/>
          </p:cNvPr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5" action="ppaction://hlinksldjump"/>
          </p:cNvPr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0666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6699"/>
              </a:gs>
              <a:gs pos="100000">
                <a:srgbClr val="00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657600" y="121932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305920" y="5943600"/>
            <a:ext cx="68580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223120" y="6400800"/>
            <a:ext cx="8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451720" y="5961240"/>
            <a:ext cx="422280" cy="4219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391520" y="5943600"/>
            <a:ext cx="685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8880" y="6400800"/>
            <a:ext cx="9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5978520"/>
            <a:ext cx="380880" cy="38088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3341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066680" y="47242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41148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35053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066680" y="289548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22860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5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67652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0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457200"/>
            <a:ext cx="1524240" cy="914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$125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3T14:15:00Z</dcterms:created>
  <dc:creator>Mark E. Damon</dc:creator>
  <dc:description/>
  <dc:language>en-US</dc:language>
  <cp:lastModifiedBy>kquisenb</cp:lastModifiedBy>
  <dcterms:modified xsi:type="dcterms:W3CDTF">2004-07-17T19:43:25Z</dcterms:modified>
  <cp:revision>17</cp:revision>
  <dc:subject/>
  <dc:title>No Slide Title</dc:title>
</cp:coreProperties>
</file>